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AC0-7AA0-4ECB-8069-42247B9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7C6-9847-4EED-B5BF-0434F854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0E8-1285-4ECB-9E3B-92FC5689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24C-46F2-470E-8E7B-382352D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FA6-7E7F-48D7-909B-B959DEE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B70-F4FE-4AF4-9441-B8B2953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E7B-1D92-46E3-9315-BBEACFC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8B4-6578-4B91-B505-698A1DF8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35F-9D54-4EA4-8061-B5F2FCD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7B7-4D51-4987-961C-6C12117B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B6D-D8C3-4858-8E6A-A583824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31E-B2C1-4C3E-B518-BB450AB6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2B8-A339-43AA-9D8F-71480C2D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«Медиация в семье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или 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КЛЮЧ к ВЗИМОПОНИМАНИЮ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80000" y="5373360"/>
            <a:ext cx="356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дагоги-психоло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икина Т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ькова Л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ОУ «СОШ № 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Отношения между родителями и детьми проблемы и их решение"/>
          <p:cNvPicPr/>
          <p:nvPr/>
        </p:nvPicPr>
        <p:blipFill>
          <a:blip r:embed="rId2"/>
          <a:stretch/>
        </p:blipFill>
        <p:spPr>
          <a:xfrm>
            <a:off x="250920" y="3351240"/>
            <a:ext cx="48956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eorgia"/>
              </a:rPr>
              <a:t>Роди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е о себе. Дайте себе отдохнуть. Не требуйте от себя невозмож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е, осознание собственных чувств может помочь в установлении конта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е, что именно РОДИТЕЛЬ, является примером в поведении, выражении чувств, и об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мните, что любовь и эмпатия – это ключ к взаимопониманию и гармонии в семье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508720" y="462600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324000" y="4673520"/>
            <a:ext cx="32781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Благодари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«Эмпатия – ключ к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ет греческое происхоождение, оно произошло от сло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atei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означает сопере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психологии эмпатией наз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человека понимать чувства и мысли собесед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ереживать ему, увиде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туацию с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ения другого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инимать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92720" y="4290840"/>
            <a:ext cx="385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eorgia"/>
              </a:rPr>
              <a:t>Развитие эмпат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 развитии эмпатии большую роль играет процесс самопознания, когда человек учится понимать себя самого, контролировать собственные мысли и чувства, ему становятся понятней мысли и чувства друг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rticle-1227897-0737F1B5000005DC-635_468x286"/>
          <p:cNvPicPr/>
          <p:nvPr/>
        </p:nvPicPr>
        <p:blipFill>
          <a:blip r:embed="rId2"/>
          <a:stretch/>
        </p:blipFill>
        <p:spPr>
          <a:xfrm>
            <a:off x="1908000" y="3865680"/>
            <a:ext cx="48974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Как вы считаете, что говорит мама дочер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Отношения между родителями и детьми проблемы и их решение"/>
          <p:cNvPicPr/>
          <p:nvPr/>
        </p:nvPicPr>
        <p:blipFill>
          <a:blip r:embed="rId2"/>
          <a:stretch/>
        </p:blipFill>
        <p:spPr>
          <a:xfrm>
            <a:off x="755640" y="1335240"/>
            <a:ext cx="77119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Georgia"/>
              </a:rPr>
              <a:t>Алгоритм реагирова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ановление конта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контакт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бращение п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е эмо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задать вопрос: Тебе грустно?, Ты злишься?, Ты обижен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яснение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вовлечение в разговор (Что случилось? Тебя кто-то обидел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ение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изменение эмо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ценка предложений и выбор наиболее приемлем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олнение решения, поддерж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исунок эмо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981000"/>
          <a:ext cx="8229600" cy="5543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900000" y="1484280"/>
            <a:ext cx="11509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484280"/>
            <a:ext cx="1152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3213000"/>
            <a:ext cx="1224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3213000"/>
            <a:ext cx="1152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5013360"/>
            <a:ext cx="1152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5013360"/>
            <a:ext cx="1224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77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3213000"/>
            <a:ext cx="11527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013360"/>
            <a:ext cx="1079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есурсные эмо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907920"/>
            <a:ext cx="6192720" cy="5950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882720"/>
            <a:ext cx="7128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Рефлексия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ЭМПАТИЯ – ключ к…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10:02Z</dcterms:created>
  <dc:creator>Майоровы</dc:creator>
  <dc:description/>
  <dc:language>en-US</dc:language>
  <cp:lastModifiedBy>веник</cp:lastModifiedBy>
  <dcterms:modified xsi:type="dcterms:W3CDTF">2020-10-26T10:20:54Z</dcterms:modified>
  <cp:revision>10</cp:revision>
  <dc:subject/>
  <dc:title>Конфликты между родителями и детьми в семье</dc:title>
</cp:coreProperties>
</file>